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180-5FD4-4F61-BADD-62FF2C15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C62-D2E0-49BB-93AC-FB3A606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1E932-BB28-4F34-9A6B-300B2D82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B13A-AD1E-49E1-B036-AE8B550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548B-90B2-4803-B6BF-128FCBA2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EE85-EB02-497F-AFC0-696D9205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7E59-B852-43E0-8BBA-7921268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20358-2228-4208-B4A8-7467BCE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A3839-848A-4FF6-9174-0A4D107A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70000-9793-4DD5-9778-1E2A113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3B9EC-2A59-4049-BD97-74321E5B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711C8-AF3D-4EA6-88B0-2C682C96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D58-D23D-4BBA-A01B-BC59582C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6B1F-644C-4F5D-BD2C-E10225A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5FBBA-CA2B-4746-A440-C6B91C4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14EA3-B121-44F4-AB6E-D32ADE67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F6053-1B19-4EB6-AE0C-A457770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CB73-A4C7-4170-B85A-799E423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E969D-8AEE-4596-A0CF-9CD8A5D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E0E16-A794-407D-99FC-932D7C1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F52E-37B8-41E2-88CD-8973B03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9B738-F872-47DC-804D-BB694472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2FCE-5A42-4B0D-9A13-214C6ECC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2B0-57D2-43EB-A501-A918B169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AE6C-02D2-4A3E-81F6-914BB1AF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37E3-AE26-4310-8496-2599A437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390D6-F8DD-493B-90EA-6C79D22E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F0B68-62E9-4FDF-8D21-3A97E1D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2E89-7BA9-4C43-9499-776477F7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8522F-66A4-4DD8-86FC-57CB00C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B39D8-2614-47C4-ABB6-E94864DA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7401-9BCD-45E1-A059-D18CD27F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4BCAF-0FF8-4178-AF6D-A4252BA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E223-DEE3-4A0F-BE26-A2AED489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67D-DF3F-424D-B485-880850E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441C8-DB84-4EB9-ADB7-839C182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1F58-5EE5-437C-A453-6DDE57FD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2B00F-7447-4E87-ADA4-82FD6E0F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29F88-B224-491B-AB7A-3325AA57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251F-B315-4B6A-840F-3E68923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0C6BD-538C-464E-BC75-614463E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E7983-9CE9-4763-912A-2DCF039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6E3FA-0459-41FD-B4EB-4A69664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C276F-3500-4B1B-95BE-B8BDEB5F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CDBEB-0BB5-4D7B-88AB-A8E05AB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2015-F195-4C92-AFA7-4DD8DB22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008AA-F9C1-402A-8325-4D14A21A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4C19B-BDC4-4B52-AE0E-2ABD694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F4A73-4E4D-4B29-ACA8-43CE0D4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51CE8-B51F-47C2-B644-4F5DF5D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905A9-3E02-4F78-A739-98670E2C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83C94-BDE9-4965-AEC2-4AE6D153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891CB-3B6D-48DF-8FBD-AEB9DF7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37E89-825A-4D34-A131-1091B9BE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665D1-6104-465C-84AB-B8BE37CE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1D95A-E95E-4D67-8250-F3D7AE8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1080-9EBD-4725-A9EB-4B69D9D6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FFC0B-ED21-4451-A1B6-E9C25B0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38438-A161-4069-9694-72B5094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E3949-7275-449B-8264-CE28AF04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7EA8D-761B-41D0-8AA3-A187214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4D9CE-9AE0-4A9C-B8D9-E387AC8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D7C1B-16B5-4C72-8A01-0693D559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43712-6760-4CCD-871E-148B88EC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068A3-DB28-49A8-8539-01FB8A8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D9443-14C0-4E79-A888-E965795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02135-6E77-49B1-A2E7-19CA2A3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5347-3A12-4FA5-9F31-C8C15DC5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67E7F-9910-40E8-8D1C-4D0C7252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9E8F0-7F66-4AB1-9994-6A6AD97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875BA-4BA5-47A2-9D5A-3168245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C4EF5-C6EF-4E4F-8A6A-79B114D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68949-0E14-4FB6-81E1-2FBA250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88D0B-3580-47CF-A346-02D865A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E862F-BDE4-41E8-8804-DF532D9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A315E-AC62-457D-9852-94F130F5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73CD3-1C52-4AB9-9016-4E80033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057AE-7942-4592-8E3D-3BDDE80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B647-48AE-41C3-8E13-2E4C83E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21363-B019-44CD-9E15-00D4D30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E8AB9-C3D1-4E83-AF90-51CF083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33864-AEAE-4247-95DB-2EECF00C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F1699-891E-4C31-9F0D-DB5A1F5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3079A-21C9-4475-BFE2-09579A0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84A84-8F09-47FA-86DA-E048196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856D5-FEB5-4BB0-8D65-E1B66DC2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9142A-F820-4463-B630-867EB52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77911-B7D7-433D-93DD-EDD1AB6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F5F3D-1F1E-49F8-85D8-C85B4348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CA5A-8732-4E27-B0F4-EBD869B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90206-00CC-4EB3-8FAE-B6F1DEFD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2AB50-E317-40ED-B642-B9F67EA0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C1693-53E0-4515-8C46-FE700C9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9597B-209B-491F-93A3-111F0B84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A9D37-6F88-43DD-A6E5-9FC9348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BC0A0-65A2-420B-8B93-6FFA3C48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798B3-D313-47B8-B9BD-5C25D74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71D6D-4E7C-416A-8305-181E23A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846FC-BB60-4F5C-874A-39625A2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7D454-C69F-4743-9461-20FF6A2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8FD8-9245-4CCF-B1E4-B53A61C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5F991-0B17-4099-9579-F7CF468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5AFA6-4882-447D-B282-DE63F6F1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2B32F-8C0D-4A80-B515-6766C47B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07D26-1043-4B85-84B7-2A001076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A6633-8567-4826-B6DB-DAEFBA2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34E4C-9349-482F-B4BB-25BC5D6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D6865-493B-40D2-9837-E96D1142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0C539-48DC-4F8A-9848-902050B7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72925-E7EB-4B45-B8DB-8F50D5FA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061B8-F602-48C2-970D-A386C37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8F6-AFE1-4C7F-A700-80291D3E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85F-5EE6-4B23-81BA-8B9FC22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02D36-B9B4-4A4F-9C31-758B2A4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D7F80-33A5-4647-BE7A-462F48D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06D0A-C057-4739-BAE2-CD9835E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D5BA5-1D45-42C9-A307-93AAE65F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48137-C718-43B8-A241-519BFE21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562B3-41E2-4C7E-98B7-1623C7ED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82DB5-C4FF-4D9D-AC32-B65ABD6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3C300-29C4-492D-AAA0-AF20722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2AC26-B90E-4B15-9AAB-105B4D03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F94CE-2FFB-418A-907A-340ED89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295-6F01-4A56-87C2-A2AB138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2C1A6-3B31-4875-B0B4-32B042A1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8C0F9-0559-4587-8757-6CD9DB7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83C02-2E26-4981-9EDF-4E74A0B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2AF0A-476E-4994-AA4D-316A9C9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F6D25-0BD6-4ACE-8160-CB9F6D5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0AB23-23D9-4271-A01C-CB27B7E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EB215-EEDB-4999-98B6-DB006522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ABA10-A56B-4635-80CF-230C0EB9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7B118-B9E3-4737-AAAF-D0EF6EB2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3BCAA-8578-4118-98FB-8D52AA1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496-65AD-4512-8F31-C2CF4EC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DABE8-817A-4330-8F3A-B6FDE53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5FBE1-61D2-4630-A039-15E2AD06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AF621-33B9-47BD-86FE-258ED40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66C7C-69B3-4CDC-93E1-47B48BE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302BC-CB58-44CB-B8D2-7C9EAFC5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79428-59E9-48D5-AB2D-B2353D9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6702E-FFCC-4CEE-A6BF-8744367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CDF21-BCB4-4FD1-AFAE-101F83C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5382C-A14E-4115-A826-5AF1C7FF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B1B9A-E2B6-4617-8662-61C4B918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9D9A-AEFD-4A5D-8BA3-E44A3268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7E5F7C-008E-460E-9EE1-2D80011F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B33C7-A7F3-4B50-9FC9-AD43603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5453F-F7A0-49EB-8013-72ECC8E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7C99B-7F56-4767-B0DD-02D2CAA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E7EC4-58DD-4CB2-9318-9922703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10809-C127-46A9-B060-C29C60C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20DB7-CCAF-4F32-AB1E-1FE6AC1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B1918E-5BF0-4208-9CF1-C634B74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E124A-28D1-43E5-9D25-0A0D6C2E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DC86E-416F-472F-8BB6-DBC0988F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C7DB-C5C6-434E-A0F2-B35DDDF1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7603C-4B94-4A44-A810-8EF44145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63E048-7EBD-40A5-8C94-118AB2D6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B3A76-21F6-4502-9AB4-AF2F3C40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2ED93-9528-4C87-A6AA-0C30F2A4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FE8EC-5BB6-451A-AE84-ADE9019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EE459-CD2E-4A7D-9FB8-7F0D4BA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75B86-AC26-40EA-8EFC-A43615CA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09391-47A6-4C54-BF60-5C11E0B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8F534-F476-49B8-8390-3DBBC206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EE45D-1D62-4B32-A81C-7020F21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B916-60DC-4539-8366-FAC3DE12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B90AF-B57A-432E-B1CD-810ECE2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F54A5-6FD1-4A87-8214-1D74D12E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166C3-DEC4-4251-AF4A-4310BA7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ED34-B7F1-4209-9A25-D5A4F70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9404-C7D4-4E51-8D8F-199A3A0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AA4D-864D-4E54-A713-59549524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D505-34D4-4DCC-B1C3-C4075BE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3C9-B9DB-4386-B80D-7043636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94C0-15A4-4A71-B787-592CFF3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7B7E-10C8-4E74-B011-06C5DA2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35F7-6087-4690-953D-04B8BDB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8CFD-894A-4A9A-BF06-7FAB8B2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3976-A18C-4CC2-8068-181AE8D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DA7B-8E60-4885-B6C7-4F20DE5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34BA-3040-4740-A10F-3ED3E914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1E3B-8C3A-4C32-901A-595B7B84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656F-68A6-47BC-B09F-0C2458F1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930C-023C-4008-943C-10F8EAF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DE6-184F-4177-8595-C0646E4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60D1-E491-45AD-AB4B-5AE9F849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BB76-E95C-499D-A807-0A7F881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BA05-236B-4E6D-B3DC-A1CFC91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5D3E-181A-4D39-8F4B-3C047F57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623B-31E4-4ABB-95D4-220F1F8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CBD8-9294-4CA6-819C-00630814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174C-0C50-40F2-961E-E3E8032F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DFEBB-6963-4A93-B216-8775A1C0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699A-95D8-4F6B-BE9C-028984F8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65E7-0A92-4383-986C-80EAE13F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818-F499-48A3-86BA-77A14D0E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B5F3-4123-472D-954D-DB217C4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49D7-981F-4FE9-8C88-3EE22F1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0F83-A1BF-46E7-9D37-1175A54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5E5F7-9545-4679-947E-415E7AB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9897-3F68-48AD-B772-8A80DF6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474A-7943-4EE3-9AAA-3F21EBCC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EB10E-32F2-4C97-B94E-87BF515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417A-760A-4161-AE5F-35D5FE5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FA2F-1B2B-471A-84B7-3DCE0C8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90F1-E1BC-4779-BA10-7C9DBB2B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911-033B-4F43-9903-0F6CA04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BE3C-D0E5-4C28-9CF7-E958846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572E-1B5C-4B3D-B2CD-794B8A13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3A14-E94F-4196-A21A-A763619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D5D5-8E24-4586-933D-46EC8D14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8BC5B-FB79-42E7-8DC7-F337A44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2539-E5F6-4746-BDA8-15569D6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E8B0-8586-4F2B-8DEF-606DD057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FE74-D067-454A-BACB-D65F6A7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CF2E-7F69-42D2-A55B-F0A6993E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0855-E93B-49E2-9C17-70512E9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33F-BA9C-4708-999E-322B31B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2DD1-85AE-4E43-8D2A-FB033A3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D71A1-D938-4363-9233-CEF99399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CE7C-0D73-4C65-AD8D-22F1516E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66AC6-B820-4505-9BC8-F8351E80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C6210-9E54-4FCA-A782-ED355C26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E9BA-1EAD-41F9-97E8-ED5B4EA2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E400A-71A7-4B0D-98CC-8ECD0B5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C61D-7F75-4AFE-9DDD-9323D14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C6A3-D626-406E-91B3-361C45F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559F-F172-4B68-870D-FCC86A01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0BD-8020-4BCF-B775-C4FFF3D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61A3-3A36-48A1-ACC9-BD824B6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9431-C6B2-4557-B467-14DF89B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FA34-7068-4F57-A7D5-EDD14682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CAAC-642F-485B-966C-B8601736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9355-9056-46F5-A628-219A4AA4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F47B9-28A1-4E20-95EB-541DD02F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8E13-738E-40DA-B6F3-F4C660F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DD978-224A-4ED3-9CDD-A6302C1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28BE-5E59-408A-A151-3713E6BC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2368-217D-49E2-9168-42808172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044-A335-4A85-B628-FD62E9D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33364-4B16-4D38-85CF-3659688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05B5-317E-4A79-BDE2-01CD941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632E-73F3-4A13-8C0A-419F1A3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D278E-E01D-4509-AB54-32C2D98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CF5D-8AD3-48D4-94DB-7D806287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902B4-0534-49A8-8F05-89393A8A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A383-7D00-469D-8BCE-56630527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714E-8D3C-4C35-978A-1B09A4E0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709DB-097F-4E40-B519-F8302CF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A5F59-3FBD-40DF-AC9D-702DDDC4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53E-D592-41BE-B796-70F9F63D5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3082-57E9-44E4-AE71-0096A0361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9E6D-F986-49E3-AAF2-5B100AF4C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3AF-1F50-4A89-BFAE-9E6260E9B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5B9-0276-4A00-9A94-A4D69F75A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339-19FD-4076-A01F-797D5C7E0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89D4-07FC-410E-AE1A-D4395869D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195-ADFD-4919-B8F2-9420A5ADF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97C-F571-49DF-8BB1-8995DBA75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0BA-430B-4732-808C-50BA5565D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CC78-52F2-4AFF-9C7B-A836FFF548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8A7-FC6E-492C-A1F6-E56D7CD43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0EC-393C-4CE3-8AB9-486860A1B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266-D4A9-478D-BE5C-1F008CB7C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99B-4BC3-40BF-8F97-3629BE822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4A20-5ED0-484C-819B-431436537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CC5-6165-4B75-B2F7-2E5B7898F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E38D-29ED-4F5E-A0BA-47F113979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0953-58AC-4B09-9A0F-FB72D9687C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1C14-8E08-496B-91FD-F6929AC29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6B7-3F7D-48F2-B63C-18DA69C0A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D7B-AC8D-4DF4-BF00-BB17E0B42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58A2-0C28-4EEE-9BB5-84C091BA2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68A-CCD2-4226-A79D-AD7C9B503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5151-4237-4C07-96AE-5AB200488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CC4-4E45-4E46-B55E-D9E2A4785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612-DD77-4C27-922B-431DAC39C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229B-37B2-46D3-8869-2C3D1DC5E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D89-E43A-4758-AC03-8D836CCF5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494-C42F-4CAA-9966-BA4D89491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11EF-88BA-4178-96E8-5FC5A3EA9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5DDB-4054-480F-860C-EB047F3A1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E855-9B38-4C1D-8E80-BC98945BA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E18-CCF8-4D77-944D-9B95B09AD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EAE-250C-4BD7-A2E2-0B37B9BFD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B95-3D6E-4C0E-BA0F-3B66FA863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414B-064D-4C00-98A9-99EBFEF07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C9EC-D06D-4722-980B-CE8398137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CE3-2798-4A2E-A945-713992B09F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BA2-CE73-4C74-AC32-8B2122D43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00040" y="3171960"/>
            <a:ext cx="8142480" cy="5140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662200" y="3862440"/>
            <a:ext cx="3819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366840" y="1947960"/>
            <a:ext cx="8408880" cy="2962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403280" y="32558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403280" y="38178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547640" y="1190520"/>
            <a:ext cx="6048720" cy="4476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3995640" y="2867040"/>
            <a:ext cx="7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635280" y="3457440"/>
            <a:ext cx="792360" cy="38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2700360" y="404820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4427640" y="463860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3203640" y="5229360"/>
            <a:ext cx="79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95400" y="1666800"/>
            <a:ext cx="8953200" cy="3524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042920" y="35146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05732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852480" y="763560"/>
            <a:ext cx="7439040" cy="5819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2700360" y="43210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700360" y="4913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2700360" y="551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2655720" y="6093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1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